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00B4-FD12-4112-862C-5C02273C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71C1-45D0-4D37-A287-55A84BFB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9D24-D3B5-44F2-A8F3-8CCF2AB2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2996-AC5D-4BD9-A2CA-B94BB1C27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F152-C9D1-4D90-A9D2-719D5726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D576-39F5-4366-A985-F09CA497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B9DF-F7B1-4EB3-ACC6-8B9D2A9D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7BA8-B634-4AD7-8A94-A2F3CE9D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1A68-1778-483A-9E8E-B3907502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B8E0-6470-4A72-BC80-EF27BA0F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D2AF-45D8-4053-BB84-8ECBD8EB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24CE-C67B-4574-8290-03FA8BEA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87E9-FC3C-43E2-AFC4-506B2F96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C867-CD8A-4617-B811-3F3956A1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83DC-C47F-4159-8513-65C85C12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BB58-E7ED-4188-A112-0C02AA7C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1FD4-3302-4059-B641-FD29327A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6C46-B0E0-4910-8E05-8448974D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1B66-33E5-46DC-ACC4-9B20CD11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B7FA-470F-4748-8885-2A288110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BC70-A924-4795-A809-CCFB5448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5C52-5F4B-4F6C-A2A2-351AECBD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B849-71F3-45F2-BF2D-41056381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1691-3E87-4810-9C98-53C39F09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9475-5575-44C3-A96B-A0C734BB47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2E9F-7C45-4B2D-8F36-C5BC72392B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00"/>
                </a:solidFill>
                <a:latin typeface="Arial"/>
              </a:rPr>
              <a:t>ТЕМА: ОЦЕНКА СТОИМОСТИ ЗЕМЕЛЬ СЕЛЬСКОХОЗЯЙСТВЕННОГО НАЗНАЧЕНИЯ</a:t>
            </a:r>
            <a:endParaRPr b="0" lang="en-US" sz="41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385360" y="692280"/>
            <a:ext cx="425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Экономическая оц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стоимости зем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708280"/>
            <a:ext cx="41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Подход, основанн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на экономическ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эффективности е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использ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59280" y="2708280"/>
            <a:ext cx="45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Подход, основанный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нормативе возмещ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потерь при отводе земел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на несельскохозяйствен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ц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340000" y="1628640"/>
            <a:ext cx="144000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1628640"/>
            <a:ext cx="136836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92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192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192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192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90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9900"/>
                            </p:stCondLst>
                            <p:childTnLst>
                              <p:par>
                                <p:cTn id="2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Объекты оценки в соответствии с Европейскими стандартам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Земл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Оборудованные фермы (с жилыми домами и постройкам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Сельскохозяйственные имения и имуществ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Многолетние культу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Квоты на производство продук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Поголовье ско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Машины и материальные запас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Зерно в хранилищах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50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В соответствии с законодательством РФ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Земли сельскохозяйственного назначения – это земли за чертой посел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В составе земель поселений выделяют зоны сельскохозяйственного исполь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Земли сельскохозяйственного назначения подразделяются на земли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Сельскохозяйственные угодь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Занятые внутрихозяйственными дорогами и коммуникация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Занятые древесно-кустарниковой растительность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Предназначенные для обеспечения защиты земель от негативных воздейств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Занятые обособленными водными объект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Занятые зданиями, строениями и сооружениями, используемыми для производства, хранения и первичной переработки сельскохозяйственной проду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350"/>
                            </p:stCondLst>
                            <p:childTnLst>
                              <p:par>
                                <p:cTn id="3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350"/>
                            </p:stCondLst>
                            <p:childTnLst>
                              <p:par>
                                <p:cTn id="3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350"/>
                            </p:stCondLst>
                            <p:childTnLst>
                              <p:par>
                                <p:cTn id="3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350"/>
                            </p:stCondLst>
                            <p:childTnLst>
                              <p:par>
                                <p:cTn id="3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7350"/>
                            </p:stCondLst>
                            <p:childTnLst>
                              <p:par>
                                <p:cTn id="3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8350"/>
                            </p:stCondLst>
                            <p:childTnLst>
                              <p:par>
                                <p:cTn id="3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Объекты оценки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Сельскохозяйственные и иные угодья, или незастроенные участки, предназначенные для сельскохозяйственного произво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Застроенные земельные участки, с расположенными на них постройками разного назначения и использо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Сельскохозяйственный имущественный комплекс с сельскохозяйственными угодь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Земельные до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150"/>
                            </p:stCondLst>
                            <p:childTnLst>
                              <p:par>
                                <p:cTn id="4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150"/>
                            </p:stCondLst>
                            <p:childTnLst>
                              <p:par>
                                <p:cTn id="4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150"/>
                            </p:stCondLst>
                            <p:childTnLst>
                              <p:par>
                                <p:cTn id="4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415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Основные методы оценки рыночной стоимости зем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fc50"/>
                </a:solidFill>
                <a:latin typeface="Times New Roman"/>
              </a:rPr>
              <a:t>Рекомендуемые методы оценк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0920" y="1341360"/>
          <a:ext cx="8229600" cy="5295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ждународными стандартам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инимуществом Росси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пособ сравнения прода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сравнения прода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азнес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распреде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Извлеч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выде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статочной стоим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остатка для земл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пособ развития территор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предполагаемого исполь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апитализации арендной пла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капитализации земельной рен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cfc50"/>
                </a:solidFill>
                <a:latin typeface="Times New Roman"/>
              </a:rPr>
              <a:t>Основные характеристики методов оценки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1413000"/>
          <a:ext cx="9144000" cy="4782960"/>
        </p:xfrm>
        <a:graphic>
          <a:graphicData uri="http://schemas.openxmlformats.org/drawingml/2006/table">
            <a:tbl>
              <a:tblPr/>
              <a:tblGrid>
                <a:gridCol w="1979640"/>
                <a:gridCol w="2049480"/>
                <a:gridCol w="2271600"/>
                <a:gridCol w="2843280"/>
              </a:tblGrid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На каком принципе базируетс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В каком случае используетс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Необходимая информац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сравнения продаж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замещ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незастроенной земл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ценах продаж аналог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распредел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Сбалансированности и вклад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застроенных участк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продажах застроенных земельных участка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выдел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наиболее эффективного использова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застроенных участк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стоимости улучшений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fc50"/>
                </a:solidFill>
                <a:latin typeface="Times New Roman"/>
              </a:rPr>
              <a:t>Основные характеристики методов оценк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268280"/>
          <a:ext cx="9145440" cy="5300640"/>
        </p:xfrm>
        <a:graphic>
          <a:graphicData uri="http://schemas.openxmlformats.org/drawingml/2006/table">
            <a:tbl>
              <a:tblPr/>
              <a:tblGrid>
                <a:gridCol w="1944720"/>
                <a:gridCol w="2087640"/>
                <a:gridCol w="2233440"/>
                <a:gridCol w="28796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На каком принципе базируе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В каком случае используе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Необходимая информ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остатка зем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остаточной продуктивности зем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свободных или частично застроенных участ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сделках по сдаче строений участков аналогов в аренд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пред-полагаемого исполь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остаточной продуктивности зем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любого земельного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возможных денежных потоках связанных с использованием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капитализации земельной р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наиболее эффективного исполь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любого земельного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возможных денежных потоках связанных с использованием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cfc50"/>
                </a:solidFill>
                <a:latin typeface="Times New Roman"/>
              </a:rPr>
              <a:t>Метод сравнения продаж.</a:t>
            </a:r>
            <a:br>
              <a:rPr sz="3400"/>
            </a:br>
            <a:r>
              <a:rPr b="0" lang="en-US" sz="3400" spc="-1" strike="noStrike">
                <a:solidFill>
                  <a:srgbClr val="ecfc50"/>
                </a:solidFill>
                <a:latin typeface="Times New Roman"/>
              </a:rPr>
              <a:t>Последовательность действий</a:t>
            </a:r>
            <a:endParaRPr b="0" lang="en-US" sz="3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8360" y="1916280"/>
          <a:ext cx="8229600" cy="410364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ейст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одбор участков земли, сопоставимых по ценообразующим факторам с оцениваемым участком, с известными ценами продаж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Внесение поправок в цены продаж, позволяющих учесть отличия объекта оценки от сопоставимого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Расчет стоимости земельного участка как среднего или средневзвешенного значения скорректированных цен сопоставимых объек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Тема: Оценка стоимости земель сельскохозяйственного назначения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. Особенности оценки стоимости земель сельскохозяйственного назначения. Объекты оценк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. Основные методы оценки земель        сельскохозяйственного назнач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. Примеры оценки стоимости зем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4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28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68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cfc50"/>
                </a:solidFill>
                <a:latin typeface="Times New Roman"/>
              </a:rPr>
              <a:t>Методы определения значения поправок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838080" y="1905120"/>
          <a:ext cx="8007480" cy="4327560"/>
        </p:xfrm>
        <a:graphic>
          <a:graphicData uri="http://schemas.openxmlformats.org/drawingml/2006/table">
            <a:tbl>
              <a:tblPr/>
              <a:tblGrid>
                <a:gridCol w="4005360"/>
                <a:gridCol w="400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оличествен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ачествен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Анализ парного набора данн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Метод общей группиров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атистический анал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Графический анал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Метод индивидуальных опрос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Анализ издерже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Анализ вторичных данн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Times New Roman"/>
              </a:rPr>
              <a:t>Последовательность действий в методе распределения</a:t>
            </a:r>
            <a:endParaRPr b="0" lang="en-US" sz="3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600200"/>
          <a:ext cx="8229600" cy="475920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ейст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одбор недавно проданных или предлагаемых на продажу объектов с участками земли, аналогичными к оцениваемому участку, с известными ценам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ценка отношения стоимости земли к общей стоимости собственности по каждому из подобранных объект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Расчет рыночных стоимостей участков земли, находящихся в сопоставимых объектах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Корректировка полученных стоимостей земельных участков к стоимости оцениваемого участк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Расчет стоимости оцениваемого участка как среднего или средневзвешенного откорректированных стоимостей земельных участк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Последовательность действий при использовании метода выделения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600200"/>
          <a:ext cx="8229600" cy="473076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Дейст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одбор объектов недвижимости с участками земли, аналогичными оцениваемому, с известными ценам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ценка рыночной стоимости улучшений для каждого из подобранных объектов недвижимости как разности полной восстановительной стоимости и накопленного износ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асчет рыночных стоимостей участков земли, находящихся в составе подобранных объектов недвижимост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рректировка полученных стоимостей земельных участков к стоимости оцениваемого участк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асчет стоимости оцениваемого участка как среднего или средневзвешенного откорректированных стоимостей земельных участк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Arial"/>
              </a:rPr>
              <a:t>Метод остатка земли</a:t>
            </a:r>
            <a:br>
              <a:rPr sz="2700"/>
            </a:br>
            <a:r>
              <a:rPr b="0" lang="en-US" sz="2700" spc="-1" strike="noStrike">
                <a:solidFill>
                  <a:srgbClr val="ffff66"/>
                </a:solidFill>
                <a:latin typeface="Arial"/>
              </a:rPr>
              <a:t>Последовательность действий</a:t>
            </a:r>
            <a:endParaRPr b="0" lang="en-US" sz="27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95280" y="1197000"/>
          <a:ext cx="8229600" cy="534816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Действ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одбор наиболее типичных для оцениваемой территории видов коммерческого использования оцениваемого земельного участк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остаточной (для существующих) или полной восстановительной стоимости прогнозируемых улучшений для выбранных видов использования оцениваемого участка с учетом возможных ограничен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общего чистого дохода от объекта недвижимос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доли общего чистого дохода, приходящегося на строения, как произведение их полной восстановительной  стоимости на коэффициент капитализации доходов от улучшен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доли общего чистого дохода, приходящегося на земельный участок, как разности общего чистого дохода и доли, приходящейся на строе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стоимости земельного  участка путем деления доли общего чистого дохода, приходящейся на участок, на коэффициент капитализации доходов от зем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Метод предполагаемого использования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95280" y="1125360"/>
          <a:ext cx="8229600" cy="531972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№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ейств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Анализ наиболее эффективного варианта застройки и доходного использования застроен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Составление сметы, обоснование сроков и графика строительства выбранного варианта застройки земель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огнозирование доходов от использования застроенного земель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Расчет издержек, необходимых для получения доходов от использования застроенного земель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ценка  стоимости земельного участка путем дисконтирования всех денежных потоков, связанных с реализацией проекта наиболее эффективного использования земель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cfc50"/>
                </a:solidFill>
                <a:latin typeface="Times New Roman"/>
              </a:rPr>
              <a:t>Метод капитализации земельной ренты</a:t>
            </a:r>
            <a:endParaRPr b="0" lang="en-US" sz="3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Годовая р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V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Коэф. капитал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V –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рыночная стоимость зем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43280" y="3068640"/>
            <a:ext cx="3600360" cy="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ы доходного подход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22280" y="2689560"/>
            <a:ext cx="8252640" cy="2687040"/>
            <a:chOff x="422280" y="2689560"/>
            <a:chExt cx="8252640" cy="2687040"/>
          </a:xfrm>
        </p:grpSpPr>
        <p:cxnSp>
          <p:nvCxnSpPr>
            <p:cNvPr id="182" name="_s133131"/>
            <p:cNvCxnSpPr>
              <a:stCxn id="183" idx="0"/>
              <a:endCxn id="184" idx="2"/>
            </p:cNvCxnSpPr>
            <p:nvPr/>
          </p:nvCxnSpPr>
          <p:spPr>
            <a:xfrm flipV="1" rot="16200000">
              <a:off x="5910840" y="2268720"/>
              <a:ext cx="160200" cy="2886840"/>
            </a:xfrm>
            <a:prstGeom prst="bentConnector3">
              <a:avLst>
                <a:gd name="adj1" fmla="val 4954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85" name="_s133125"/>
            <p:cNvCxnSpPr>
              <a:stCxn id="186" idx="0"/>
              <a:endCxn id="184" idx="2"/>
            </p:cNvCxnSpPr>
            <p:nvPr/>
          </p:nvCxnSpPr>
          <p:spPr>
            <a:xfrm flipV="1">
              <a:off x="4548240" y="3632040"/>
              <a:ext cx="3600" cy="16020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87" name="_s133126"/>
            <p:cNvCxnSpPr>
              <a:stCxn id="188" idx="0"/>
              <a:endCxn id="184" idx="2"/>
            </p:cNvCxnSpPr>
            <p:nvPr/>
          </p:nvCxnSpPr>
          <p:spPr>
            <a:xfrm flipH="1" flipV="1" rot="5400000">
              <a:off x="3025440" y="2269080"/>
              <a:ext cx="160200" cy="2886120"/>
            </a:xfrm>
            <a:prstGeom prst="bentConnector3">
              <a:avLst>
                <a:gd name="adj1" fmla="val 49549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84" name="_s133127"/>
            <p:cNvSpPr/>
            <p:nvPr/>
          </p:nvSpPr>
          <p:spPr>
            <a:xfrm>
              <a:off x="3333240" y="2689560"/>
              <a:ext cx="2430000" cy="94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Доходный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подход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_s133128"/>
            <p:cNvSpPr/>
            <p:nvPr/>
          </p:nvSpPr>
          <p:spPr>
            <a:xfrm>
              <a:off x="422280" y="3791880"/>
              <a:ext cx="2481120" cy="158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капитализации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Земельной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ренты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_s133129"/>
            <p:cNvSpPr/>
            <p:nvPr/>
          </p:nvSpPr>
          <p:spPr>
            <a:xfrm>
              <a:off x="3308400" y="3791880"/>
              <a:ext cx="2480400" cy="158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предполагаемого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использования 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_s133130"/>
            <p:cNvSpPr/>
            <p:nvPr/>
          </p:nvSpPr>
          <p:spPr>
            <a:xfrm>
              <a:off x="6193800" y="3791880"/>
              <a:ext cx="2481120" cy="158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0" rIns="2160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остатка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для земли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4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тоды сравнительного подход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24000" y="1483560"/>
            <a:ext cx="8410320" cy="3850920"/>
            <a:chOff x="324000" y="1483560"/>
            <a:chExt cx="8410320" cy="3850920"/>
          </a:xfrm>
        </p:grpSpPr>
        <p:cxnSp>
          <p:nvCxnSpPr>
            <p:cNvPr id="193" name="_s134149"/>
            <p:cNvCxnSpPr>
              <a:stCxn id="194" idx="0"/>
              <a:endCxn id="195" idx="2"/>
            </p:cNvCxnSpPr>
            <p:nvPr/>
          </p:nvCxnSpPr>
          <p:spPr>
            <a:xfrm flipV="1" rot="16200000">
              <a:off x="5425200" y="1590480"/>
              <a:ext cx="1162440" cy="2947320"/>
            </a:xfrm>
            <a:prstGeom prst="bentConnector3">
              <a:avLst>
                <a:gd name="adj1" fmla="val 982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6" name="_s134150"/>
            <p:cNvCxnSpPr>
              <a:stCxn id="197" idx="0"/>
              <a:endCxn id="195" idx="2"/>
            </p:cNvCxnSpPr>
            <p:nvPr/>
          </p:nvCxnSpPr>
          <p:spPr>
            <a:xfrm flipV="1">
              <a:off x="4533120" y="2482560"/>
              <a:ext cx="3240" cy="2025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8" name="_s134151"/>
            <p:cNvCxnSpPr>
              <a:stCxn id="199" idx="0"/>
              <a:endCxn id="195" idx="2"/>
            </p:cNvCxnSpPr>
            <p:nvPr/>
          </p:nvCxnSpPr>
          <p:spPr>
            <a:xfrm flipH="1" flipV="1" rot="5400000">
              <a:off x="2474280" y="1586160"/>
              <a:ext cx="1162440" cy="2955960"/>
            </a:xfrm>
            <a:prstGeom prst="bentConnector3">
              <a:avLst>
                <a:gd name="adj1" fmla="val 9820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95" name="_s134152"/>
            <p:cNvSpPr/>
            <p:nvPr/>
          </p:nvSpPr>
          <p:spPr>
            <a:xfrm>
              <a:off x="3276720" y="1483560"/>
              <a:ext cx="2511000" cy="999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Сравнительный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подход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_s134153"/>
            <p:cNvSpPr/>
            <p:nvPr/>
          </p:nvSpPr>
          <p:spPr>
            <a:xfrm>
              <a:off x="324000" y="3645000"/>
              <a:ext cx="25081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сравнени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прода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134154"/>
            <p:cNvSpPr/>
            <p:nvPr/>
          </p:nvSpPr>
          <p:spPr>
            <a:xfrm>
              <a:off x="3276720" y="4507560"/>
              <a:ext cx="2511000" cy="82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распредел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134155"/>
            <p:cNvSpPr/>
            <p:nvPr/>
          </p:nvSpPr>
          <p:spPr>
            <a:xfrm>
              <a:off x="6228720" y="3645000"/>
              <a:ext cx="2505600" cy="826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Мето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выдел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Примеры оценки стоимости земли        сельскохозяйственного назнач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324000" y="907920"/>
          <a:ext cx="8567640" cy="5338800"/>
        </p:xfrm>
        <a:graphic>
          <a:graphicData uri="http://schemas.openxmlformats.org/drawingml/2006/table">
            <a:tbl>
              <a:tblPr/>
              <a:tblGrid>
                <a:gridCol w="4103640"/>
                <a:gridCol w="4464000"/>
              </a:tblGrid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факто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рректировки на зависимой осно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. Условия финансир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0000(1-0,06)=28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. Дата продаж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+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8200(1+0,05)=296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рректировка на независимой осно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. Местополо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-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. Удоб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. Топограф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-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бщая корректировка на независимой осно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-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тоимость объекта-аналога, если он обладал характеристиками оцениваемого объ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9610(1-0,2)=236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755280" y="189000"/>
            <a:ext cx="77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Расчёт стоимости земли методом сравнения прода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ценка недвижимости/ Под ред. А.Г. Грязновой. – М.: Финансы и статистика,  2003. – С. 236-26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Джораев В.О. Оценка бизнеса: Учебно–методическое пособие – Оренбург, ОГАУ, 2004. – 42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Экономическая оценка земли/ Под ред. Руденко Н.Р. – М.: ВНИИЭСХ, 2005. – 210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79280" y="2492280"/>
          <a:ext cx="8713800" cy="3333960"/>
        </p:xfrm>
        <a:graphic>
          <a:graphicData uri="http://schemas.openxmlformats.org/drawingml/2006/table">
            <a:tbl>
              <a:tblPr/>
              <a:tblGrid>
                <a:gridCol w="496800"/>
                <a:gridCol w="2760480"/>
                <a:gridCol w="1538640"/>
                <a:gridCol w="3917880"/>
              </a:tblGrid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Цена земельного участка с улучшениями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Доля земли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тоимость земли, руб./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20 000*0,32=134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50 000*0,17=144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 000 000*0,15=15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тоимость свободного земельного (134400+144500+150000)/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43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519120" y="431640"/>
            <a:ext cx="80136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Расчёт рыночной стоимости зем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методом распред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Пример 1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250920" y="1484280"/>
          <a:ext cx="8678880" cy="3697200"/>
        </p:xfrm>
        <a:graphic>
          <a:graphicData uri="http://schemas.openxmlformats.org/drawingml/2006/table">
            <a:tbl>
              <a:tblPr/>
              <a:tblGrid>
                <a:gridCol w="461880"/>
                <a:gridCol w="2779560"/>
                <a:gridCol w="1943280"/>
                <a:gridCol w="3494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Цена объекта недвижимости (земельного участка с улучшениями)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оимость улучшений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Отношение стоимости улучшений к стоимости объ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1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7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7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7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реднее значе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оимость свободного земельного участка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(1-0,75)*500000/0,75=167000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3564000" y="47628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Пример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600"/>
                            </p:stCondLst>
                            <p:childTnLst>
                              <p:par>
                                <p:cTn id="5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468360" y="1773360"/>
          <a:ext cx="8451720" cy="4627440"/>
        </p:xfrm>
        <a:graphic>
          <a:graphicData uri="http://schemas.openxmlformats.org/drawingml/2006/table">
            <a:tbl>
              <a:tblPr/>
              <a:tblGrid>
                <a:gridCol w="1368360"/>
                <a:gridCol w="2087640"/>
                <a:gridCol w="2736720"/>
                <a:gridCol w="22590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бъ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Цена предложения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огнозируемый чистый операционный доход, руб./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эффициент капит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 0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2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6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0 1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05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0 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70 7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9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 126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 097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79 8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1150560" y="212760"/>
            <a:ext cx="73681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Оценка рыночной стоимости земл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методом остатк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Таблица 1.- Определение величины коэффициен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капитализации для улучш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360"/>
                            </p:stCondLst>
                            <p:childTnLst>
                              <p:par>
                                <p:cTn id="5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395280" y="1916280"/>
          <a:ext cx="8280360" cy="4081320"/>
        </p:xfrm>
        <a:graphic>
          <a:graphicData uri="http://schemas.openxmlformats.org/drawingml/2006/table">
            <a:tbl>
              <a:tblPr/>
              <a:tblGrid>
                <a:gridCol w="792000"/>
                <a:gridCol w="5905800"/>
                <a:gridCol w="15825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№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Элемент анали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Общий чистый операционный доход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725 7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оимость улучшений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 228 1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оэффициент капитализации для улучш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2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Чистый операционный доход, относящийся к улучшениям (стр. 2*стр. 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48 0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Чистый операционный доход, относящийся к земле (стр. 1 – стр. 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77 6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1332000" y="404640"/>
            <a:ext cx="695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Таблица 2. - Расчёт величины чистого операционного дохода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относящегося к земельному участку</a:t>
            </a:r>
            <a:r>
              <a:rPr b="0" lang="en-US" sz="2200" spc="-1" strike="noStrike">
                <a:solidFill>
                  <a:srgbClr val="ffcc66"/>
                </a:solidFill>
                <a:latin typeface="Arial Black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11280" y="2060640"/>
          <a:ext cx="8137440" cy="3095640"/>
        </p:xfrm>
        <a:graphic>
          <a:graphicData uri="http://schemas.openxmlformats.org/drawingml/2006/table">
            <a:tbl>
              <a:tblPr/>
              <a:tblGrid>
                <a:gridCol w="1081080"/>
                <a:gridCol w="5543640"/>
                <a:gridCol w="151272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Элемент анали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Чистый операционный доход, относящийся к земле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77 6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эффициент капитализации дохода от зем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ыночная стоимость земли, руб. (стр.1:стр.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 986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1648440" y="476280"/>
            <a:ext cx="63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Таблица 3. - Итоговый расчёт стоим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земельного учас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395280" y="765000"/>
          <a:ext cx="8229600" cy="5927760"/>
        </p:xfrm>
        <a:graphic>
          <a:graphicData uri="http://schemas.openxmlformats.org/drawingml/2006/table">
            <a:tbl>
              <a:tblPr/>
              <a:tblGrid>
                <a:gridCol w="1828800"/>
                <a:gridCol w="522360"/>
                <a:gridCol w="588960"/>
                <a:gridCol w="520560"/>
                <a:gridCol w="523800"/>
                <a:gridCol w="522360"/>
                <a:gridCol w="587520"/>
                <a:gridCol w="522000"/>
                <a:gridCol w="524160"/>
                <a:gridCol w="520560"/>
                <a:gridCol w="523800"/>
                <a:gridCol w="520920"/>
                <a:gridCol w="523800"/>
              </a:tblGrid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Затраты на строительст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оимость обремене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Арендная плата за зем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Доходы от продажи кварти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Доходы (+), расходы (-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-1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-2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авка дисконт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12"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Фактор дисконт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9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6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Дисконтирован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ный денежный пот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-1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-200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78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74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69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07,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51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36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29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21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1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Итого сум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12"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625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Пример расчета методом предполагаемого использования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7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539640" y="2708280"/>
          <a:ext cx="8136000" cy="1714320"/>
        </p:xfrm>
        <a:graphic>
          <a:graphicData uri="http://schemas.openxmlformats.org/drawingml/2006/table">
            <a:tbl>
              <a:tblPr/>
              <a:tblGrid>
                <a:gridCol w="431640"/>
                <a:gridCol w="4992840"/>
                <a:gridCol w="2711520"/>
              </a:tblGrid>
              <a:tr h="77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Годовая рента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00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×</a:t>
                      </a: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 = 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ыночная стоимость земельного участка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00 : 0,1 = 4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2207160" y="731880"/>
            <a:ext cx="5068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imes New Roman"/>
              </a:rPr>
              <a:t>Оценка стоимости земли методом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imes New Roman"/>
              </a:rPr>
              <a:t>капитализации земельной рент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ВОПРОС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Особенности оценки стоимости земель сельскохозяйственного назначения. Объекты оцен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Основные факторы, оказывающие влияние на стоимость земли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Природно-климатические услов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Тип землепользования и направление ведения сельскохозяйственного произво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Структура посевных площадей и преобладающие системы севооборо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Виды сельскохозяйственных угодий и производимых товарных культур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Плодородие, технологические свойства и другие характеристики качества почв и рельеф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Основные факторы (продолжение)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Урожайность основных товарных культур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Местоположение относительно рынков сбы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Улучшения, произведенные с сельскохозяйственными угодья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Занятость населения и другие социально-демографические особен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Цены на ГСМ и сельскохозяйственную техник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Инфраструктура хозяй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Отличия, которые необходимо учитывать при оценке земель сельскохозяйственного назначения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Arial"/>
              </a:rPr>
              <a:t>В определении структуры  и состава издержек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Arial"/>
              </a:rPr>
              <a:t>В определении статей дохода и способов его оценк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Arial"/>
              </a:rPr>
              <a:t>В применении принципа наиболее эффективного использования, через выбор технологий ведения сельскохозяйственного производства, системы севооборотов, обеспечивающих получение максимального доход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Arial"/>
              </a:rPr>
              <a:t>В критериях отбора объектов аналогов и элементов сравне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Особенности, которые необходимо учитывать при проведении оценки: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Необходимость поддержания почвенного плодородия сельскохозяйственных угоди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Прямая зависимость структуры сельскохозяйственных угодий от физико-географических характеристик местно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Высокие риски ведения производства, обусловленные природными факторам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Влияние на доходы производства колебания цен на сельскохозяйственную продукцию, ГСМ, сельскохозяйственную технику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Сезонный характер сельскохозяйственного производства и цен на рынке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Диспаритет цен на сельскохозяйственную и промышленную продукцию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Невысокая плотность населе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Степень развития инфраструктуры и д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771640" y="1557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76800" y="3645000"/>
            <a:ext cx="368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Экономическая оц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стоимости зем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0640" y="3645000"/>
            <a:ext cx="357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Качественная оцен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земель по природ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свойств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195640" y="2205000"/>
            <a:ext cx="201600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2205000"/>
            <a:ext cx="187164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18000" y="1197000"/>
            <a:ext cx="56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Оценка сельскохозяйствен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угод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2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2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2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300"/>
                            </p:stCondLst>
                            <p:childTnLst>
                              <p:par>
                                <p:cTn id="2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3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300"/>
                            </p:stCondLst>
                            <p:childTnLst>
                              <p:par>
                                <p:cTn id="2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3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0:18:03Z</dcterms:created>
  <dc:creator>Джораев </dc:creator>
  <dc:description/>
  <dc:language>en-US</dc:language>
  <cp:lastModifiedBy>Джораев В.О.</cp:lastModifiedBy>
  <dcterms:modified xsi:type="dcterms:W3CDTF">2007-02-15T17:00:20Z</dcterms:modified>
  <cp:revision>18</cp:revision>
  <dc:subject/>
  <dc:title>ТЕМА: ОЦЕНКА СТОИМОСТИ ЗЕМЕЛЬ СЕЛЬСКОХОЗЯЙСТВЕННОГО НАЗНАЧЕНИЯ</dc:title>
</cp:coreProperties>
</file>